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DE3-1693-4CFD-81A6-D9470FE6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659-64B9-4005-A69B-05D4B95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3BB-CDAB-478A-91B4-8F1AA374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7E3-83A6-4C71-9889-08613347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614-CC02-49CB-80C9-E53DF083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281-3D87-4B84-97D1-2E0341E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434-F8E1-4676-9E25-964B11F9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D69-6EF1-4D6D-B100-4BB57218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AE5-FF1C-4199-AB4F-003D89CF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DC7-B260-4CEB-88A6-0BC9EFA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8A1-C405-48C1-9DF7-8FBC475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50E-128F-4921-BE8F-86012E36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BF69-EC1B-4C7B-BF8E-492C1510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magnifying glass to scan for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device, right click on it, then select “apply template from file”.  Select file called “FT4232H_custom_tsw1400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USB String Descriptors”. Check then Uncheck Auto Generate Serial 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24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serial number will now be present. Click on lightning bolt to the right of the magnifying glass to start programming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334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Program” to program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programming window. Click on magnifying glass to verify that the part was programmed with the new serial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oing a second board, just click on magnifying glass and uncheck “Auto Generate Serial No.” then program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1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3:28:10Z</dcterms:created>
  <dc:creator>a0181823</dc:creator>
  <dc:description/>
  <dc:language>en-US</dc:language>
  <cp:lastModifiedBy>a0181823</cp:lastModifiedBy>
  <dcterms:modified xsi:type="dcterms:W3CDTF">2011-10-18T12:50:19Z</dcterms:modified>
  <cp:revision>21</cp:revision>
  <dc:subject/>
  <dc:title>Slide 1</dc:title>
</cp:coreProperties>
</file>